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68D7-3D57-4149-8AAD-3C10362130E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C075-D982-4F9F-BC9F-E48A644E3B6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ws.collin.edu/biopage/faculty/mcculloch/1406/outlines/chapter%2010/chap10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3697-911E-459E-86A0-4590B6BE4B7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7EA3-8E51-4039-986F-1D15E101C12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5484-870D-449B-B4B4-236EFC9D79F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6154-0171-4BF8-AE9D-7EC17DD47DD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163.16.28.248/bio/activelearner/08/ch8c2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iws.collin.edu/biopage/faculty/mcculloch/1406/outlines/chapter%2010/chap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il.mahidol.ac.th/e-media/electrochemistry/web/pictures/nad.gif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0FF-F313-4150-9688-D4465CAF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5AF-002E-46C8-A2F2-93FF343B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517-438E-4058-A046-AFF752EF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D4A-D88C-43D1-BAC1-8F43682E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3EE-327D-4677-8C75-CA4EB308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EE7-6F66-4C83-8EB2-9EEE7F3F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FE2-BE8C-4D65-83EB-E56149C3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AA2-F6F0-4F17-B43D-D3D9F013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684-F386-4261-97B5-3A0DE3A4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B21-9D22-44B3-A9C4-A0CF9987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9C3-3E50-49A3-AA74-20904569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7F7-BDDC-466F-B4E0-8B87ED21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2BE7-973E-4896-973A-963F2CF1D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ways of Photosynthe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ell movie on Electron Transport Chain in Photosyn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vcell.ndsu.edu/animations/photosynthesis/movie-flash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narrated animation &amp; self-quiz…try it!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highered.mcgraw-hill.com/sites/0073383198/student_view0/chapter3/animation_quiz_-_photosynthetic_electron_transport_and_atp_synthesi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ation of elect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hotosystem II (P680), which is transferred to primary electron ac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(non-cyclic) electron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osmosis (ATP sy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766800" y="1600200"/>
            <a:ext cx="761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visit the Khan Academ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tic explanation of electron transport in photosynthesis (20 minutes 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www.khanacademy.org/video/photosynthesis---light-reactions-and-photophosphorylation?playlist=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&amp; NAD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amide adenine dinucleotide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nzyme used in anabolic reactions such as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4648320" y="1641600"/>
            <a:ext cx="40384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3-04-03T12:28:45Z</dcterms:modified>
  <cp:revision>103</cp:revision>
  <dc:subject/>
  <dc:title>Slide 1</dc:title>
</cp:coreProperties>
</file>